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7FE5-1B4A-4481-8D6B-D4F65EAE8418}"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21F9-CC4A-4228-A4CA-80C2E053485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8DEC-B9AD-4364-AF6D-A46CD590FF6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Providing access to your data</a:t>
            </a:r>
            <a:br>
              <a:rPr sz="4800"/>
            </a:br>
            <a:r>
              <a:rPr b="0" lang="en-US" sz="4800" spc="-1" strike="noStrike">
                <a:solidFill>
                  <a:srgbClr val="000000"/>
                </a:solidFill>
                <a:latin typeface="Helvetica Neue Light"/>
              </a:rPr>
              <a:t>Determining your audience</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4280" y="4952880"/>
            <a:ext cx="995688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R. Downs, PhD</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ocioeconomic Data and Applications Center (SEDAC)</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enter for International Earth Science Information Network (CIESI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olumbia University</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44" name="Picture 8" descr=""/>
          <p:cNvPicPr/>
          <p:nvPr/>
        </p:nvPicPr>
        <p:blipFill>
          <a:blip r:embed="rId3"/>
          <a:stretch/>
        </p:blipFill>
        <p:spPr>
          <a:xfrm>
            <a:off x="4154400" y="7658280"/>
            <a:ext cx="2500560" cy="1752480"/>
          </a:xfrm>
          <a:prstGeom prst="rect">
            <a:avLst/>
          </a:prstGeom>
          <a:ln w="0">
            <a:noFill/>
          </a:ln>
        </p:spPr>
      </p:pic>
      <p:pic>
        <p:nvPicPr>
          <p:cNvPr id="745" name="Picture 6" descr=""/>
          <p:cNvPicPr/>
          <p:nvPr/>
        </p:nvPicPr>
        <p:blipFill>
          <a:blip r:embed="rId4"/>
          <a:stretch/>
        </p:blipFill>
        <p:spPr>
          <a:xfrm>
            <a:off x="6692760" y="7924680"/>
            <a:ext cx="1125720" cy="1204920"/>
          </a:xfrm>
          <a:prstGeom prst="rect">
            <a:avLst/>
          </a:prstGeom>
          <a:ln w="0">
            <a:noFill/>
          </a:ln>
        </p:spPr>
      </p:pic>
      <p:pic>
        <p:nvPicPr>
          <p:cNvPr id="746" name="Picture 4" descr=""/>
          <p:cNvPicPr/>
          <p:nvPr/>
        </p:nvPicPr>
        <p:blipFill>
          <a:blip r:embed="rId5"/>
          <a:stretch/>
        </p:blipFill>
        <p:spPr>
          <a:xfrm>
            <a:off x="11773080" y="9298080"/>
            <a:ext cx="838080" cy="295200"/>
          </a:xfrm>
          <a:prstGeom prst="rect">
            <a:avLst/>
          </a:prstGeom>
          <a:ln w="0">
            <a:noFill/>
          </a:ln>
        </p:spPr>
      </p:pic>
      <p:sp>
        <p:nvSpPr>
          <p:cNvPr id="747" name="TextBox 9"/>
          <p:cNvSpPr/>
          <p:nvPr/>
        </p:nvSpPr>
        <p:spPr>
          <a:xfrm>
            <a:off x="4122360" y="9321840"/>
            <a:ext cx="739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 Neue Light"/>
              </a:rPr>
              <a:t>Copyright 2011. The Trustees of Columbia University in the City of New York</a:t>
            </a:r>
            <a:endParaRPr b="0" lang="en-US" sz="16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audience for data products or services should be determined to ensure that these resources can meet the needs of the audience</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ne or more audiences may be determined for data products and services and audiences may change over time</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r>
              <a:rPr b="0" lang="en-US" sz="3400" spc="-1" strike="noStrike">
                <a:solidFill>
                  <a:srgbClr val="606060"/>
                </a:solidFill>
                <a:latin typeface="Helvetica Neue"/>
              </a:rPr>
              <a:t>Audience can be defined based on demographics or on the purposes for using the resources</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audience for data products or services should be determined early to influence plans for development, dissemination, and stewardship and should be evaluated throughout the data lifecycle to identify improvements needed to serve current and future audiences </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fontScale="99000"/>
          </a:bodyPr>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termining the audience for data products or services influences the development and management of the resources to foster discovery, accessibility, understandability, and usability by the audience  </a:t>
            </a:r>
            <a:endParaRPr b="0" lang="en-US" sz="3400" spc="-1" strike="noStrike">
              <a:solidFill>
                <a:srgbClr val="606060"/>
              </a:solidFill>
              <a:latin typeface="Helvetica Neue"/>
            </a:endParaRPr>
          </a:p>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ducers, distributors, stewards, and sponsors of data need to know what audiences are being served</a:t>
            </a:r>
            <a:endParaRPr b="0" lang="en-US" sz="3400" spc="-1" strike="noStrike">
              <a:solidFill>
                <a:srgbClr val="606060"/>
              </a:solidFill>
              <a:latin typeface="Helvetica Neue"/>
            </a:endParaRPr>
          </a:p>
          <a:p>
            <a:pPr lvl="1" marL="653400" indent="-2635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ducers can develop resource for use by the audience</a:t>
            </a:r>
            <a:endParaRPr b="0" lang="en-US" sz="2800" spc="-1" strike="noStrike">
              <a:solidFill>
                <a:srgbClr val="606060"/>
              </a:solidFill>
              <a:latin typeface="Helvetica Neue"/>
            </a:endParaRPr>
          </a:p>
          <a:p>
            <a:pPr lvl="1" marL="653400" indent="-2635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stributors can package, promote, and disseminate resources to the audience</a:t>
            </a:r>
            <a:endParaRPr b="0" lang="en-US" sz="2800" spc="-1" strike="noStrike">
              <a:solidFill>
                <a:srgbClr val="606060"/>
              </a:solidFill>
              <a:latin typeface="Helvetica Neue"/>
            </a:endParaRPr>
          </a:p>
          <a:p>
            <a:pPr lvl="1" marL="653400" indent="-2635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tewards can manage the data to meet current and prospective audience needs and assess its value to the audience</a:t>
            </a:r>
            <a:endParaRPr b="0" lang="en-US" sz="2800" spc="-1" strike="noStrike">
              <a:solidFill>
                <a:srgbClr val="606060"/>
              </a:solidFill>
              <a:latin typeface="Helvetica Neue"/>
            </a:endParaRPr>
          </a:p>
          <a:p>
            <a:pPr lvl="1" marL="653400" indent="-2635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ponsors can support data collection, development, and distribution for the audience</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etermine audience throughout data lifecycle</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udience may be defined by user demographics, such as discipline (oceanography, geology, etc.) or level of expertise (graduate students, experienced climate scientists, etc.)</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udience may be defined by the application and uses of data products and services, such as scientific research, education, policy-making, and plann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termination of the intended audience should inform initial data development and dissemination pla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valuation of past and current audiences should inform enhancements for data products and related services and can be used to identify the impacts of the resources</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ethods for determining current audience</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rics for access and support (describe in privacy policy)</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eb metrics (initial and repeat visitors’ page visits, downloads)</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tact information provided during requests for assistance</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gistration</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quest contact information from recipients of data</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r surveys (with approval of ethics board)</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dminister questionnaires to visitors of data webpage</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itations – provide a recommended citation for data</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ferences in published scientific literature (articles, books, etc.)</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ferences in gray literature (presentations, reports, blogs, etc.)</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ferences in popular media (magazines, newspapers, radio, television, etc.)</a:t>
            </a: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hen, R. S. and Downs, R. R. 2010. Evaluating the Use and Impact of Scientific Data. Assessing The Usage and Value of Scholarly and Scientific Output: An Overview of Traditional and Emerging Metrics. Available online at http://info.nfais.org/info/ChenDownsNov10.pdf</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racking data usag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Broadening your user community</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Robert R Downs</dc:creator>
  <dc:description/>
  <dc:language>en-US</dc:language>
  <cp:lastModifiedBy>Robert R Downs</cp:lastModifiedBy>
  <dcterms:modified xsi:type="dcterms:W3CDTF">2011-12-03T05:06:11Z</dcterms:modified>
  <cp:revision>60</cp:revision>
  <dc:subject/>
  <dc:title>ESIP Federation 101</dc:title>
</cp:coreProperties>
</file>